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8222-9D23-44B0-9037-A033ABD1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25F-5DA2-43C9-AB58-CB062328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B96-C360-4F64-86B8-4AAFED4D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180-436A-4C02-9658-3ED9432B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75AD-E593-4E29-A3DE-78628412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422-1E9D-4982-A05C-2BF18EF3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FD4-DD28-4EBC-BEF2-AD65AEA1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C07-406A-4EC0-86E8-D2928E83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5CC-8CAF-4902-96BD-44A10B3D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46E-10B5-4EDB-9D64-84B8AC28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0B4-BB30-4D4D-B54D-B6CEAAD8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376-9A1E-481B-A75D-20170BCB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C05B-0C15-406D-BF60-0D392DC6A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9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راع مع قطيعــه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أب مع بنيـ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قود الرب دومــاً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يرشد في الطري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في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قات الشبـع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في أوقات الجو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كـل من يديه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د الرب المسيح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200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4572000" cy="72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راع يقودنا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آب يقودنـ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باحاً ومسـاءً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اليـوم الجدي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ـراع يقودنــا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آب يقودن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باحـاً ومساءً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و الـرب الإل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129528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831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343400" cy="90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حينمــا نأتي إليه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بذلات البني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روحه القدوس يشفي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يمحو كـل أني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إلى المياه الراحة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هـو يريدنـ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لا نخاف ظل الموت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لأنه معنا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7:42:28Z</dcterms:created>
  <dc:creator>SUZANNE.MD</dc:creator>
  <dc:description/>
  <dc:language>en-US</dc:language>
  <cp:lastModifiedBy>HANI SAFI</cp:lastModifiedBy>
  <dcterms:modified xsi:type="dcterms:W3CDTF">2003-04-30T13:46:23Z</dcterms:modified>
  <cp:revision>1</cp:revision>
  <dc:subject/>
  <dc:title>PowerPoint Presentation</dc:title>
</cp:coreProperties>
</file>